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848-92A3-4B83-9B77-698A2D99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690F-8286-4C32-9CDD-A7521E5E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CE27-1949-425F-B627-9343EF6B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FB3-4D25-4BD9-9DD6-DACBE19D5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20C-F762-4541-AB02-A56A56BE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55E-821C-4B74-8ACE-6D4A85DF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B7E5-173A-4582-BDED-31F11C1D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6EA-7904-4AD0-9726-A68D06DF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F78-24F0-48F2-BD8F-4278E439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D2EF-10AF-4C7D-8615-3E4AA446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B42-6DA2-45DF-BF1E-DB0C79D1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3B6-65CD-4927-BA9D-BFFA928F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</a:t>
            </a:r>
            <a:fld id="{BFAC20F4-B0A3-4801-B7BF-CF85D20497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5ce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04640"/>
            <a:ext cx="8064360" cy="59770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5c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5640" y="914400"/>
            <a:ext cx="583272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tschaftsinformatik der Produktionsunterne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präsentation Wintersemester 2004/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54100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hael Kr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2666880"/>
            <a:ext cx="556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chäftsmodelle v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 Software und Open Sou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n Überb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S-Produkt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Appliancehersteller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2209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roße Bandbreite an Produk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26668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innahmen durch Vertrieb über Par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38280" y="31240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artungsverträge mit Partn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3581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upporthil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40384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ovisionen von Software-Herstell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38280" y="45720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arkt reagiert schnell auf Preisänder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S-Dienstleistungs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enstlei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2209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Zielgruppe: Unterneh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26668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irekter Dienst am 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438280" y="4038480"/>
            <a:ext cx="6337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38280" y="312408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Unabhängig von OS, da es in der Wirtschaft einen Dienstleistungssektor gib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438280" y="38098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Kompetenz und Vertrau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42670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brechnung über Personensät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S-Dienstleistungs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enstleister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38280" y="2209680"/>
            <a:ext cx="6337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4 Kategorien Dienstleis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istributoren, HW-Hersteller, Systemintegratoren und spezialisierte OS-Dienstle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438280" y="4038480"/>
            <a:ext cx="6337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38280" y="3581280"/>
            <a:ext cx="6337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4 Supporttyp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stallationssupport, Supportpakete, Wartungsverträge, Integrationsleis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38280" y="48006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raffe Organisation als Voraussetz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00000"/>
                </a:solidFill>
                <a:latin typeface="Arial"/>
              </a:rPr>
              <a:t>OS-Mediator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Mediatormodel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38280" y="2209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SourceForge.net, Berl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438280" y="4038480"/>
            <a:ext cx="6337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66688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Vermittlung von Entwicklern, Nutzern, Dienstleistern und Werbetreibenden über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34290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Kein Produkt und keine Dienstleistung i.e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38280" y="38862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lattform um Open Source Software zu scha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00000"/>
                </a:solidFill>
                <a:latin typeface="Arial"/>
              </a:rPr>
              <a:t>OS-Mediator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Mediatormodelle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38280" y="2209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nanzierung über Werbung nicht erfolgre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2438280" y="4038480"/>
            <a:ext cx="63374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38280" y="266688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kundäres Modell: Kommerzielles Softwareangebot auf dem Por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38280" y="34290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gistrierung gegen Bezah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38280" y="38862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Unmut bei der OS-Gemei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38280" y="43434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ohe Nutzerzahlen =&gt; Attraktivität =&gt; Erfo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48006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schließlich Internetpräs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onstige 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nstige Model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438280" y="20574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Embedded Ope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438280" y="25146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Embedded Appl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38280" y="29718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Vorinstalliert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38280" y="34290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roße integrierte IT-Anbi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38098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Linuxho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2670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ü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38280" y="4724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imm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Fazit und Ausbli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z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2438280" y="20574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Verschiedene Geschäftsmod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38280" y="251460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ntscheidungsfaktor: Abhebung von prop. SW und dadurch Gewinn von großen Marktantei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438280" y="32004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rößter Konkurrent ist Micro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36576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S-Gemeinde mit Grundsätzen und Zi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Fazit und Ausbli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usbli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2438280" y="20574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Voraussagen sind v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25146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ote Zah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38280" y="29718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lexibilitä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38280" y="34290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achsende OS-Gemei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438280" y="38862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bsatz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5ce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1280" y="404640"/>
            <a:ext cx="8064360" cy="59770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b5c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4360" y="1052640"/>
            <a:ext cx="7848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len D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ür Ih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fmerksamk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38080" y="44197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E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459900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hal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13372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egriffsklä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143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29528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281952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Vorstellung der Geschäftsmodelle (Angebotsse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34290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azit &amp; Ausbli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459900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griff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2209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oprietär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38280" y="281952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re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34290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pen Sourc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38280" y="396252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eschäftsmod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pen Source Geschäfts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arum nur OS-Geschäftsmodel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2209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S als Marketing-Konzept der FS entsta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26668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eschäftsmodelle eindeutig kommerzi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438280" y="31240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Viele Quellen benutzen OS und FS synon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S-Produkt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stributorenmode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2209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Zusammenfügen fremder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26668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asiert rein auf Ope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438280" y="31240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odell von SuSE oder RedHat mit Lin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38280" y="434340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innahmen durch den Vertrieb über Partner gegen einmaligen Kaufpreis ohne Folgeko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02920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Zusatzverträge über Support und War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358128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Betriebssysteme für Server, Clients und Embedd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S-Produkt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stributorenmodell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2209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Kein Urheberrechtsschutz wegen OS-Lizenz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38280" y="26668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Zielgruppe: Unternehmen und Privatpers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438280" y="31240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Ziel: Dauerhafte Bindung von Ku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38280" y="35812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efahr: alternativer Bezugsweg (RedH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40384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ternationale Vor-Ort-Präs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S-Produkt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kationsanbi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38280" y="220968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rstellung eigener Software unter einer OS-Liz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266688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.d.R. Zusatzsoftware mit Vertrieb über Internet ohne Partner. Vor-Ort-Präsenz nicht notwendi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438280" y="3352680"/>
            <a:ext cx="63374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3 Entwicklungsansät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op. SW =&gt; Quellcode Freigabe (Mozil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anze OS Entwicklung unter Lizenz (RedH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S-Projekt =&gt; Kommerzieller Vertri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38280" y="518148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oduktumfang von Zusatzsoftware bis Officepa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S-Produkt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kationsanbieter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2209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utzung in Kombination mit Windows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438280" y="2666880"/>
            <a:ext cx="6337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ewinnm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ratis, weil Markt keine Gewinne verspr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ebührenpflichtige Lizenzen (Zeit, Umfa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7164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5400720" cy="1609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438280" y="40384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ertschöpfungsk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133720" y="990720"/>
            <a:ext cx="7010280" cy="5867280"/>
          </a:xfrm>
          <a:prstGeom prst="rect">
            <a:avLst/>
          </a:prstGeom>
          <a:solidFill>
            <a:srgbClr val="66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23880" y="0"/>
            <a:ext cx="7620120" cy="981000"/>
          </a:xfrm>
          <a:prstGeom prst="rect">
            <a:avLst/>
          </a:prstGeom>
          <a:gradFill rotWithShape="0">
            <a:gsLst>
              <a:gs pos="0">
                <a:srgbClr val="6699ff">
                  <a:alpha val="56078"/>
                </a:srgbClr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13372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6699ff">
                  <a:alpha val="5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6524640"/>
            <a:ext cx="2050920" cy="3333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62320" y="203040"/>
            <a:ext cx="655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OS-Produktmod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28000" y="655308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olie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95640" y="128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Applianceherstell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8280" y="220968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eräte, bestehend aus Hard- &amp; Software mit OSS-Betriebssystemkern und Schnittstelle zu Benu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1911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2193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2590920"/>
            <a:ext cx="1373400" cy="76176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fc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5715000"/>
            <a:ext cx="1373400" cy="762120"/>
          </a:xfrm>
          <a:prstGeom prst="roundRect">
            <a:avLst>
              <a:gd name="adj" fmla="val 36875"/>
            </a:avLst>
          </a:prstGeom>
          <a:gradFill rotWithShape="0">
            <a:gsLst>
              <a:gs pos="0">
                <a:srgbClr val="ffffff"/>
              </a:gs>
              <a:gs pos="100000">
                <a:srgbClr val="aac5f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1371600"/>
            <a:ext cx="12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434340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S-Mod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5867280"/>
            <a:ext cx="133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38280" y="28954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ertschöpfung erfolgt bis zum Vertri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2743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81000" indent="-81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grif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979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438280" y="3352680"/>
            <a:ext cx="63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upport übernehmen Partnerfi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3809880"/>
            <a:ext cx="63374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Bekannteste Anbi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 Unicode MS"/>
              </a:rPr>
              <a:t>Cobalt/SUN, IBM Whistle, IBM Net Vista, LinWare, Nok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6:39:26Z</dcterms:created>
  <dc:creator>Mr.Bob</dc:creator>
  <dc:description/>
  <dc:language>en-US</dc:language>
  <cp:lastModifiedBy>SantaKrus</cp:lastModifiedBy>
  <dcterms:modified xsi:type="dcterms:W3CDTF">2004-12-21T09:22:27Z</dcterms:modified>
  <cp:revision>148</cp:revision>
  <dc:subject/>
  <dc:title>Clever Connection Company</dc:title>
</cp:coreProperties>
</file>